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147-8126-4171-99F5-BA7B0248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812-C2D7-450A-9F5A-D3762E6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0FF-0174-49EA-A02C-BD1ECAC3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551-D904-4742-AC12-46A65C53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C25-8E65-43DA-A33F-1693AB1E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7D66-57FC-4A24-80E7-20710C8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7E8-91CD-4870-81F7-421DFE0D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0F99-D33B-4C52-9E9F-F74047C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FA5A-351B-4FF5-9EA5-05A389C5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B6C-A453-4FB3-9391-1F33B51D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0FC-E349-44F5-BBCE-D0C5737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687-A3C9-4663-B286-00E8FA88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4A87-70DA-46B9-843F-5BA5E13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CB4E-64EC-475B-AE50-C145ECA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BEF1-89B0-492F-B351-CC7C808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1F5E-6015-455C-A0B9-A01B59ED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F267-7B65-49B9-BB9F-EF6829D9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50C-3750-414E-96AE-BA21217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64D-B015-4599-8ED0-A977E8B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947-BA16-42B5-AB4E-6810809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A81-1F45-4642-AB8C-D82FD73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C1B-5A73-4F10-8DF3-3DD6411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B1D-0D65-492F-A4EB-0CA6A5B6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08D-BC41-4169-9ECE-9042D496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C83-A9F6-4DF1-97D1-C3BCBA2C821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E2D-DF1C-4138-9806-30F781D3022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reshman Ye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ut it Pe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goal not written is only a wish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t them where you can see them oft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Picture 4" descr="E:\PFiles\MSOffice\Clipart\standard\stddir1\bd06937_.wmf"/>
          <p:cNvPicPr/>
          <p:nvPr/>
        </p:nvPicPr>
        <p:blipFill>
          <a:blip r:embed="rId3"/>
          <a:stretch/>
        </p:blipFill>
        <p:spPr>
          <a:xfrm>
            <a:off x="3352680" y="3429000"/>
            <a:ext cx="2514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Just Do I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 commit to your goa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will you work on them, how, wher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re is no try, only do or do not.”  --Yod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Picture 5" descr="http://www.geocities.com/yodajm_2002/pix/yoda1.jpg?SSImageQuality=Full"/>
          <p:cNvPicPr/>
          <p:nvPr/>
        </p:nvPicPr>
        <p:blipFill>
          <a:blip r:embed="rId4"/>
          <a:stretch/>
        </p:blipFill>
        <p:spPr>
          <a:xfrm>
            <a:off x="6095880" y="3962520"/>
            <a:ext cx="20131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e Momentous Mom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school ye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ye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da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ew jo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life changing ev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ick to your goals, even when you no longer feel like i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3" name="Picture 4" descr="E:\PFiles\MSOffice\Clipart\smbusbas\bs00057_.wmf"/>
          <p:cNvPicPr/>
          <p:nvPr/>
        </p:nvPicPr>
        <p:blipFill>
          <a:blip r:embed="rId7"/>
          <a:stretch/>
        </p:blipFill>
        <p:spPr>
          <a:xfrm>
            <a:off x="5181480" y="2286000"/>
            <a:ext cx="22399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Rope Up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orrow strength from other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ll people about your goal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Picture 4" descr="E:\PFiles\MSOffice\Clipart\smbusbas\pe07399_.wmf"/>
          <p:cNvPicPr/>
          <p:nvPr/>
        </p:nvPicPr>
        <p:blipFill>
          <a:blip r:embed="rId3"/>
          <a:stretch/>
        </p:blipFill>
        <p:spPr>
          <a:xfrm>
            <a:off x="4419720" y="3200400"/>
            <a:ext cx="3733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on’t Be Afraid to Fal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Goal Writ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990720" y="20574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My Goals sheet write three SMART goals for the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1904760"/>
            <a:ext cx="69339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“</a:t>
            </a:r>
            <a:r>
              <a:rPr b="1" i="1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If you want to live a happy life, tie it to a goal, not to people or things.”</a:t>
            </a:r>
            <a:r>
              <a:rPr b="0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--Albert Einste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Ball Toss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is our ball tossing activity related to goal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MART GO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cific – does my goal tell me exactly what I want to achieve?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surable – how will I know I have met my goa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ievable – is my goal possibl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listic – will I be able to meet my goa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ebound – is there a time limit to my goa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ennis Bal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Take a tennis ball and know what number you hav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When I say start, throw your tennis ball as high in the air as you can without touching the ceiling and catch i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How many balls touched the groun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This time, you are to catch someone else’s ball.  Start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Black"/>
              </a:rPr>
              <a:t>How many balls touched the groun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Was it harder to catch your own ball or someone else’s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How could you have been more successful to catch someone else’s ball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How is this related to goal setting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 Black"/>
              </a:rPr>
              <a:t>If you zero in on just one goal, is it easier or harder to accomplish the goal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ligraph421 BT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ligraph421 BT"/>
                <a:ea typeface="Times New Roman"/>
              </a:rPr>
              <a:t>Without goals, and plans to reach them, you are like a ship that has set sail with no destination.”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ligraph421 BT"/>
                <a:ea typeface="Times New Roman"/>
              </a:rPr>
              <a:t>-- Fitzhugh Dods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5 Keys to Goal Setting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unt the Co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ut it in P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ust Do 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Momentous Mo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ope 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Picture 4" descr="E:\PFiles\MSOffice\Clipart\standard\stddir2\bs00850_.wmf"/>
          <p:cNvPicPr/>
          <p:nvPr/>
        </p:nvPicPr>
        <p:blipFill>
          <a:blip r:embed="rId6"/>
          <a:stretch/>
        </p:blipFill>
        <p:spPr>
          <a:xfrm>
            <a:off x="5486400" y="2666880"/>
            <a:ext cx="2971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unt the C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t a go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will it require?  List the step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are the benefits?  Are they worth it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nly make a commitment you are willing to keep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Picture 4" descr="E:\PFiles\MSOffice\Clipart\standard\stddir1\bd04896_.wmf"/>
          <p:cNvPicPr/>
          <p:nvPr/>
        </p:nvPicPr>
        <p:blipFill>
          <a:blip r:embed="rId5"/>
          <a:stretch/>
        </p:blipFill>
        <p:spPr>
          <a:xfrm>
            <a:off x="5257800" y="4495680"/>
            <a:ext cx="302724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4:06:46Z</dcterms:created>
  <dc:creator>Darrin Williams</dc:creator>
  <dc:description/>
  <dc:language>en-US</dc:language>
  <cp:lastModifiedBy>NHBOE</cp:lastModifiedBy>
  <dcterms:modified xsi:type="dcterms:W3CDTF">2013-09-18T13:51:46Z</dcterms:modified>
  <cp:revision>18</cp:revision>
  <dc:subject/>
  <dc:title>Goals</dc:title>
</cp:coreProperties>
</file>